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7A3-1076-4272-92C7-978FEA51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93E-7FA5-4953-B51B-782FE73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EE1E3-D92F-44C5-8EEB-CAEC507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2E5C1-36D2-4A7A-9758-AF01B0D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77AE1-8229-40A7-A33E-C95BDE4F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BB625-3886-41EA-AE12-AFFEA82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E2C9D-3917-4CF3-ACA2-240A2A9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4F1F-E9A5-4BDC-A46A-40C614E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A8C3-4D3E-4130-9482-18D1BAA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2254D-EACA-4E02-A916-04883775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99D8-1275-40C3-A8BE-4379495C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31E30-E96E-4F2A-B388-056516E6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90D-3932-45B4-A563-561814BE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0786B-4AC4-4E07-AF27-9CE5B693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943A-6075-4D6C-87ED-64978E24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3F418-FF04-4FB2-9073-AB0AEB3B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AB876-A85B-49F3-8079-CD9A029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67F01-0EE2-4A12-ABBC-AE063905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CD554-E516-4444-AEA6-AE967C6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D2735-274A-442A-AA7B-6E98A2A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B3F1F-DA82-4FD9-9056-565927C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53F7B-5589-458C-8116-CF63897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0B2B1-2882-4CA4-BA2D-969D3264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557-0A82-4708-9D11-20D21C99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49C5E-313A-4C12-A17A-A87A58E7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42BD6-19F7-4535-9B0D-7728F120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8705E-01C9-471D-94DE-075AC6C2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5D068-FEE8-49B9-894E-9971DEB5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7BE25-0CA7-4D01-85E7-012AA83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403D3-09A0-4F01-B9A8-22867CF2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E4FAD-4480-48F6-8AA9-E7663D58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F5D8D-82E2-460B-8F47-B70EA8E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7140C-758C-4B45-BEEC-5212F4F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55F35-6EFC-4407-94AB-AEA47A2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5312-45A5-47BD-B51B-EB5CB3F1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64F70-2618-472A-95FD-BB67CA72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47669-7D21-4D32-BC10-BB676B42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558B3-15D9-49EB-9A4D-A0A05BAF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13B4B-681E-4A52-ADF5-4E01036D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197DB-7565-4CB7-BC81-88259AB8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1B316-4882-46E7-ABB7-D79CF95B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32BB2-E7B1-45D7-8C5F-6AFBBBBB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FFB3-BC62-4896-BCF6-CBB7FE6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277B9-97EC-419D-9B76-2620D2BB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81215-779F-4BC4-8935-6AEF98F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229-27A3-4F52-A846-E9AF7C6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B9EE6-F20D-4BEB-86C6-912BC79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9744B-8BC6-4A5F-86F0-9444DC87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68948-5014-4824-A0F5-5A55990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82D2B-810A-4D28-BD22-9603CABE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7C1B8-03F4-4B21-9B1B-E448BA4C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BAD40-6A4C-484D-B82A-5D34803D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DE5F9-A524-4D00-BB2E-5115F3DC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1D972-C380-44A0-8315-0507A52C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20851-DC2D-4016-90EE-628FCF8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3F5DA-C4B7-47CD-BB4F-4CCCE1BA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D90C-4E90-4660-B145-FE5033D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B30E7-448D-401F-938C-7558B1A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F2340-9319-416A-8C8F-8887858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09B23-152D-42B8-A230-5486E59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F7DA0-FD5A-4CCF-9013-E0FC651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C5925-F9D6-4E0D-89F8-179655B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2BFF1-3E0A-4DAB-94D1-5B417D83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F60F9-12A1-4D2E-A14D-2410353F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CB1F-00ED-4FEB-9FBB-BAC89FF8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2F4D-F339-4BD7-9BB5-D02EE3B3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188A-55F7-496F-81EB-7C4E1F8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2A0E-9DF8-4072-AA61-F45DD50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5C7-0438-445F-AF6F-FC5F7471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4ED-1E4E-4655-B092-10CE76E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7F42-4677-4DEF-B52E-3E04CBE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6FB-29DD-4C48-A9E8-D365F59C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ADF-C8E6-45E8-B81D-F86030FC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AFCF-34C6-4E39-A607-22FE7A1F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DE4B-A31B-4BD0-94E6-99BE11D6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032F-43D9-4409-97F4-C908A01C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A075-3B3C-4280-906E-AD62F3D5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7A5B-F892-443F-866A-D2F5961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0864-7BC6-43D9-9B8D-BF5EC20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247-4C80-4C5B-AAB6-B90B24A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4192-16A1-4A37-8C59-F1F52F3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338E-D011-4591-8E38-1DFF4A1A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EFA2-38A8-4883-BBAA-2877C69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ABF5-9AAD-4D16-9645-7082EDF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106F-882C-4D15-9600-A812E46F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FA49-F6AE-41AA-B54C-B8310830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0E01-54F6-4C72-87DF-5B09FFDC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CF47-D844-4D00-A579-27870DCF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0EAA-5B40-480F-AED5-26940A6B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0A08-809B-403D-85B8-2BC4A5A5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5DC-E8AF-4E9A-B172-2CA4C148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A5FA-445C-4281-8DF8-0CDAA63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0309-448F-43A5-BC27-DCDA83D9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0AEE1-48BE-4CF8-BFEF-162BBC31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3E08-E261-4C0C-ACDB-156726FA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A3CE-34B0-4C6C-B460-9F178F9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8C55-A560-4FEE-B6FA-5D21306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12FB-AC89-441E-B53B-BF97E7F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22A4-3AEC-4DDA-B69E-2A533BCC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2CE9F-2B5D-4BE7-98A6-BAFE3A3E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94D1-E947-4515-A72B-6DFA0D4A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17D-38C7-4D7B-B832-5943949B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9F92-4D02-4285-8D3B-7EABB719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0141-6870-404B-A4C8-1221D8FC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EFFA-327E-478D-80A1-03A5008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31B5-C6D3-4A32-943C-20963A80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EE4D-0DAF-4427-BEE8-18C7A72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9098-06E7-4E37-9A12-3E52BD36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AD26C-0054-4046-9E72-B13ACC6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3A7B-F5A9-4CDD-A761-F5FC304A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C319-8696-425E-AB06-F6F9BA0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408D-33BB-4F34-A08A-C71B6919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2B7-7244-435A-8B46-13AEC0F9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C652-531A-4870-B86C-70E7E986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3A20-2CC7-4692-9B9C-EE002B1E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B16DC-A343-47E4-8C2F-1760F76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13B01-B518-4964-A011-48DC28A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4F192-0D16-4B85-97BD-3BECE57E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5C59-186D-49D8-852A-D18E704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6C54-A53E-40B4-A0F6-7C6C5A5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901F-143B-43B9-8381-C9C11F5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C322-A191-40E9-9048-4D0D5D0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434D-F827-499F-9689-5FA54B0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A30-2CEC-46EA-9B8B-7A9744EE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8B10-C4AE-48D1-974F-10443E7D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C67B2-C226-437A-A019-842298EC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B0C1-3DA9-41CA-9560-A72B815D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38D2-F7AE-4911-8668-A4ED3FD0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48D8-1F18-4194-8545-9D626964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F1F8-8604-46E9-8B79-5C5C5119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E73C-582E-4222-A407-4CB2C90F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92FA-F45E-48CF-9AEF-9B20E21A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9ED0-4719-4429-94BC-FCB3DA96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CD4A-0A58-41E9-BA58-6709EAE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5B0-8BD5-4D33-B23F-25B98DA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70C95-EF32-476F-97FD-66FDFC0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043A-0E5D-435D-A42C-58BC538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2C16-D306-410B-8889-721BEDD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A7AF-BFD6-4D99-A52A-F016BB2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23907-FF3D-4E3E-AEA1-A374AE6B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A0545-DF97-489C-AF7F-A30AC7A1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124D-F2BE-4612-ACC2-16E48513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6E2CB-B4FE-4711-9245-90BCE59F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12577-6623-4B7D-B1F9-E09F1A19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ECB1-83FD-4437-82F6-2C5CC0B3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FA9-10ED-46C9-80FC-DFD6B0B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C0C68-D20C-4448-83A4-E1345A3A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D4D13-47A4-4A58-AABD-120FAECC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D8EC5-60B8-45C4-8414-1AAE263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1BE92-C59A-490E-B489-DF94C5B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DEDF-90AE-4BAA-926B-D7894475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06F5-B1DB-43C7-93D4-2309BBF6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32FD6-7A5B-42FF-90B8-49BEEED4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124E-3C68-430D-9237-EAFF68AA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AB1FB-3C82-411F-858A-376140DC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C473F-0AD5-4B9E-8016-313F35C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2F9B-32AB-4566-B793-7A98BC2A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D9E1-F4CB-4713-ABE0-8A0DFA83AE2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27B3-2A60-49F7-A0AB-6B9B12E3407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71E2-3F57-47FF-98AE-7301C15A5C8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B2B2-297E-41EB-B803-D2DC10E4317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1E70-E985-4B7F-897E-73C9B70DFDC6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526-0E72-443E-9A14-A7147E160C2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498A-8E9D-4928-BD21-DA820F537F6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687-5C9A-434D-83E6-5987991AD0C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2054-B6AE-4C95-95F6-EC956DBB026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C8E5-5058-458E-8214-8FCA72BDBF4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550-7D9D-4A52-A24F-BD374709A16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9BB6-6162-4668-AD9F-DFAC85695C7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ТИКА И СИСТЕМ ЗДРАВСТВЕНЕ ЗАШТИТЕ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ставна јединица бр. 6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АЊЕ СИСТЕМА ЗДРАВСТВЕНЕ ЗАШТИ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611280" y="-648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ално посматрано, припада Бизмарковом моделу обавезног здравственог осигурања, док је суштински на прелазу између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обавезног здравстве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националне здравствене служ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тзв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,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национално здравствено осигур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- без довољно аутономије у одлучивању Републичког фонда и уз значајан интервенционизам државе)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стем здравствене заштите Републике Срб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Републици Србији присутан 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овити систем финанс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система здравствене зашти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га карактер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 претежн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аван извор финансир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р се финансирање нај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м делом остварује из средстава доприноса и из буџета Републи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инансирање здравстве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те у Републици Србији у основи је засновано 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Бизмарковом моде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 се више од 8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редстава за остваривање права из обавезног здравственог осигурања обезб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е из средстава доприноса за обавезно здравствено осигур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м о здравственој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и пред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о је и финансирање здравствене 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те из буџета Републике за лица која нису обух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а обавезним здравственим осигурањ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оја су изл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на по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м ризику оболев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сигурана ли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глице и интерно расељена лица са територије Аутономне покрајине Косово и Метох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аоци социјалне пом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 друг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је 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карактерист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вериџевог моде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асходи за здравствену з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титу и здравствено осигурањ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упни расходи за здравствен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ту и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епублици Срби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се поделити 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ја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при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Јавни расх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Јавни расх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редстављају расходе из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јавних прихода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бавезно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џет Републи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џет аутономне покрајине и буџет локалне самоупра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ни расходи су и инвестиције у систем здравствене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те из 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них фонд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Приватни расх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Приватни расх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здравствену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ту су из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приватних изв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чна плаћања корисника здравствене заштите (лично учешће осигураних лица и трошковима здравствене заштите – партиципација, плаћање пуне цене здравствених услуга које се не могу пружити на терет средстава здравственог осигурања и плаћање пуне цене здравствених услуга даваоцима из приватног сектор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ровољно здравствено осигу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приватних трошкова (95,6%) чине плаћања из ,,џепа“за здравствене услу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1020600"/>
            <a:ext cx="78868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300" spc="-1" strike="noStrike">
                <a:solidFill>
                  <a:srgbClr val="000000"/>
                </a:solidFill>
                <a:latin typeface="Calibri Light"/>
              </a:rPr>
              <a:t>Национални здравствени систем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66840" y="1755720"/>
            <a:ext cx="8548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ље има изузетно важан утицај на способност људи да живе свакодневни живот, на допринос друштвеном и економском развоју, односно општем успеху земље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з наведених разлога се здрављу приступа као великом националном ресурсу који завређује континуирани стратешки развој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аво на здравље и здравствено осигурање- једно од основних људских права загарантованих Уставом Републике Срб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ви би требало да уживају у најбољем здрављ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7000" y="1034640"/>
            <a:ext cx="78865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080" y="1717200"/>
            <a:ext cx="856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сновне демографске карактеристике Становништва Србије: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тенденција смањења броја становник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старе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топа наталитета: 9,3 на 1000 становник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топа смртности : 14,2 на 1000 становни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Негативна стопа прираштаја 4,9 на 1000 становника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Удео популације старије од 65. година у Србији у укупној популацији износи 17,4% изнад просека је у Европском региону (15,3%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оценат младих узраста до 14 година је 15,3%  и испод европског просека је (16,8%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972720"/>
            <a:ext cx="78868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34880" y="1784160"/>
            <a:ext cx="850896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осечан животни век у Србији износи 74,6 године што је краће од просека живота у земљама ЕУ (80,2 године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Републичком заводу за статистику у Србији се очекује тренд смањења становништва до 2022. годин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бази Светске банке а према вредности националног дохотка по глави сановника Србија је 2012. године била на 100. месту од 223 земље са 11,43$ усклађених према паритету куповне моћ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класификацији Светске банке, Србија припада земљама са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вишим средњим националним дохотком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 глави становника и сврстава се у групу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земаља у развоју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ма овом навођењу, од бивших Југословенских република, од Србије је лошије позиционирана само Босна и Херцеговин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1080" y="1176120"/>
            <a:ext cx="78865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79000" y="1852200"/>
            <a:ext cx="83660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а здравствено стање становништва утицала су поред старења и негативна социо-економска кретања у последњих 10-20 годин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одећи узроци оболевања, инвалидности и превременог умирања ( пре 65. године) су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хроничне незаразне болести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оје се у великој мери могу превенирати адекватним мерама здравствене заштит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2012. години преко 2/3 свих узрока смрти су чиниле болести срца, крвних судова и малигних тумор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53,7 % смртни исход услед болести система крвото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0,8% је преминуло од последица малигног тумо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,9% од компликација дијабете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2,6% од опструктивних болести плућ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3,2% од последица тро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985680"/>
            <a:ext cx="78868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56760" y="1746360"/>
            <a:ext cx="85201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одећи узроци обољевања и умирања становништва указују на квалитет рада здравствене службе али и на однос појединца и друштвене заједнице према здрављ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и систем према СЗО:  „скуп свих организација, институција и ресурса усмерених ка предузимању акција чија је основна сврха побољшање, очување или обнављање здравља људи.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То није само хијерархија установа које обезбеђују здравствену заштиту већ много комплекснију унију поступака.. Нпр..кампање за превенцију и контролу заразних болести, организацију здравственог осигурања, програм промене понашања са негативним утицајем на здравље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 социјалне сигурности у Србиј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 социјалног осигурањ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ензијско-инвалидско осигурањ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здравствено осигур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игурање за случај незапосле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систем друштвене бриге о де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пород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систем друштвене заштите бораца, војних инвалида и цивилних инвалида р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систем социјалне заштите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856800"/>
            <a:ext cx="78868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06080" y="1571400"/>
            <a:ext cx="84805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Добар здравствени систе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пружа квалитетне услуге свим људима, када и где им је потребн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пус права на здравствену заштиту варира од земље до земље али у свим случајевима 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захтева стабилан извор финансирањ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ред извора финансирања, есенцијални елементи здравственог система су и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добро обучени и адекватно плаћени кадар, поуздане информације на основу којих ће се креирати и доносити одређена здравствена полит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декватна инфраструктура, опрема, лекови, савремена технологија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50800" y="995040"/>
            <a:ext cx="7886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90520" y="1774800"/>
            <a:ext cx="84996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а заштита- свеобухватна и организована делатност друштва са основним циљем да се оствари највиши могући ниво очувања здравља људи и грађан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Мере и активносту здравствене заштите морају бити квалитетне, безбедне, ефикасне, ефективне, засноване на научним доказима и у складу са начелима професионалне ети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На сонову поделе система здравствене заштите (ЗЗ) који је креирала 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OECD ( Organisation forEconomic Cooperation and Development)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- Организација за економску сарадњу и развој, систем ЗЗ у Србији припада Бизмарковом моделу – обавезно здравствено осигурање ( допринос је основни извор финансирања), велики обухват  становништва здравственом заштитом и доминантно државно власништво над инфраструктур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944280"/>
            <a:ext cx="78868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79000" y="1649160"/>
            <a:ext cx="86360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иватни здравствени сектор- код нас још увек неадекватно развијен. Стихијски се развијао без адекватне контроле или подршке држав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Капацитети здравственог систем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купан број самосталних здравствених установа према Уредби о плану мреже здравствених установа у 2012. години у Србији је износио 3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 државном сектору у 2012. години било је запослено укупно 112587 радника; доктора медицине 18,6%; доктора стоматологије 1,9%; дипломираних фармацеута 1,9%, медицинских техничара 35,3% и немедицинских радника 24,5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адровска обезбеђеност, број лекара и медицинских техничара на 100000 становника , приближио се просечним вредностима за земље Европског региона (334 лекара и 766 техничара на 100000 становни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0920" y="1082520"/>
            <a:ext cx="78865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75760" y="1752120"/>
            <a:ext cx="867276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Добра обезбеђеност становништва лекарским кадром нарушена је неповољном дистрибуцијом, тј високом концентрацијом кадра у урбаној средини а дефицитом кадар у руралним подручјим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а превазилажење овог проблема неопходан је одговарајући план са вишеслојним и комплексним мерама и активност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90400" y="963360"/>
            <a:ext cx="78868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47400" y="1726920"/>
            <a:ext cx="8577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Финансирање здравствене заштит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еко 90% средстава за оставривање права из обавезног здравственог осигурања се обезбеђујеиз средстава допирноса за обавезно здравствено осигурањ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аконом о ЗЗ је предвиђено и финансирање из буџета Републике Србије за лица која нису обухваћена обавезним здравственим осигурањем а која су изложена повећаном ризику обољевања (неосигурана лица, избеглице, примаоци социјалне помоћ и друг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рбија има мешовити модел финансирања кога карактерише искључиво јаван извор финансирањ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1760" y="1852560"/>
            <a:ext cx="86742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бавезни здравственим осигурањем осигураним лицима обезбеђује се право на здравствену заштиту и право на новчане надокнаде у складу са Законом о здравственом осигурањ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раво на здравствено осигурање грађани остварују посредством Републичког фонда за здравствено осигурање (РФЗО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ред обавезног Закон уређује и добровољно здравствено осигурањ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Здравствена заштита у Републици Србији, финансира се и средствима из донације као и директним плаћањем од стране корисника здравствене заштите (партиципације и плаћање пуне цене услуга које се не обезбеђују из средстава обавезног здравственог осигур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982440"/>
            <a:ext cx="78868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ционални здравствени систем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70000" y="1697040"/>
            <a:ext cx="866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чување и унапређење здравља становништва и одрживост система здравствене заштите је основни циљ здравствене политике, чији је носилац Министарство здрав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ени систем мора осигура вертикалну повезаност ( примарног, секундарног и терцијарног нивоа) и хоризонталну повезаност у систему и у односу на локалну заједницу, да ради на сталном унапређењу квалитета здравствене заштите, развоју здравствених кадрова, информатичке подршке, одрживости финансирања, партнерству приватног и јавног сектора,постаљање корисника у центар система здравствене зашт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стема здравствене заштит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 1987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националне здравствене с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социјал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 приватног осигур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,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,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сни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и здравствене заштите углавном међусобно се разликују према начину прикупљања средстава за здравствену заштиту и остваривању осталих права из здравственог осигурања, односно према изворима финансир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) потпун обухват становништва здравственом заштитом и здравственим осигурањ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финансирање из буџета, односно путем поре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) претежно државно власништво или само контрола над зградама и опремом у здрав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вериџ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националне здравствене службе прва увела је Велика Британија, у јулу 1948. г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јам Бевериџ,  је у свом извештају из 1942. године образложио основе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итанска национална здравствена служб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tional Health Sevice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д Велике Британије и Ирске, као пример могу се навести: Шведска, Норвешка, Финска, Данска, Исланд, Канада, Аустралија, Италија, Шпанија, Португалија   и друге зем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 проценат становништва обухваћеног обавезним здравственим осигурањем (преко 90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нансирање путем доприноса запослених и њихових послодаваца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жавно и/или приватно власништво над зградама и опремом у здрав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змарков мо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примери земаља са социјалним осигурањем могу се навести: Немачка, Аустрија, Француска, Швајцарска, Белгија, Холандија, Луксембург и друге земље. Такође, земље у транзицији претежно се опредељују за систем социјалног осигу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 приватног осигу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сходно приватно власништво над зградама и опремом у здравст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ватно здравствено осигурањ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 проценат неосигураног становниш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ан представник земаља са системом приватног осигурања су САД. У овој земљи, у којој расходи за здравствену заштиту чине око 18% бруто доомаћег производа, здравствено је неосигурано око 48 милиона становника или 15,4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машков мод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ан Бевериџовом моделу, али  искључује приватну прак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 модел био је примењиван у Совјетском Савезу и другим источноевропским земљама, међутим у Европи више не постој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машков модел данас је присутан у Азији (Кина, Северна Кореја, Монголија, Вијетнам) и на Ку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8:49:03Z</dcterms:created>
  <dc:creator>No name</dc:creator>
  <dc:description/>
  <dc:language>en-US</dc:language>
  <cp:lastModifiedBy>User</cp:lastModifiedBy>
  <dcterms:modified xsi:type="dcterms:W3CDTF">2019-02-18T18:54:53Z</dcterms:modified>
  <cp:revision>21</cp:revision>
  <dc:subject/>
  <dc:title>ФИНАНСИРАЊЕ СИСТЕМА ЗДРАВСТВЕНЕ ЗАШТИТЕ У РЕПУБЛИЦИ СРБИЈИ</dc:title>
</cp:coreProperties>
</file>